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A369-DD81-40A0-90F2-A80F6B3E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C60C-B9C9-4E23-BF45-0667537C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C1B0-45BC-4CFF-9994-EE7E0C35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4EE1-6DFB-48E2-9AEC-8741BE7F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FDE3-420F-4616-A02E-F508127F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B756-485A-4DC1-A7D5-C717543C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5649-7849-4A6B-A11E-78B3BBD8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9415-0527-4D98-B8E5-844D5217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263B-87D9-4840-A2E3-6A778B81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3D3E-DC62-4384-9787-64D93223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6943-66D4-40C1-9B83-CB50DB79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9EE6-2350-430A-92B8-22E8069B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1C44-25D7-48BB-9732-EB573355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71B4-4E22-41ED-AB1E-B2238CA0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36D7-0272-4BB6-B8DA-6CEC5F76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10C8-A08B-4D7E-9673-27143B97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15EE-9161-46B8-92F4-CC4C1BE4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B72C-DB6E-4EC8-BE84-9B365C72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4AD5-076B-4114-98F0-C9C484C4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BF5D-4E50-4C95-A91F-A81C7801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A54E-1AED-4475-B6B7-3ED726B1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B4C-2FBB-43A6-BF55-C5F988D3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BB82-4FCE-4B84-96E8-0D3D554E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1491-0595-4ACC-9997-5927AFAC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3F56-7E10-4503-8A95-BA006B92076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5D1F-92CA-4226-8A37-B6F8E0702EB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Unit 1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l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kil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om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cep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c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ck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mas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ic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ec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dep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craf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al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8320" y="1218960"/>
            <a:ext cx="403848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gr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te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f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wit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derst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uzz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ntast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skilful (skillful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contest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gici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sappe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uzzl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atisfa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eamwor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fiel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cc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asebal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amp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med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hortsto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ttitu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a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coreboa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-ope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udspeak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ighl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ubhou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refre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pboa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utloo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oughhou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mpi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neepa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crimm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arterbac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uchdow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1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ur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eigh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cau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ssi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ere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a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iss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ra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incip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oul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ar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r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oo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incip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ra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i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e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verdu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e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ation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ssista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ru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in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1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ort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ea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oub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amp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e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ur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ecess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ffer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cc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oursel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ertain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rrig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-ope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lurr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rpri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is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ttitu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cau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atisfa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1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lphab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eop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tt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ictu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brar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it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yst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d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ach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ang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ranch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ig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la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ousan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dre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hel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msel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entur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nounc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ctionar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anguag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brari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ue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ookshel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1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oesn’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ou’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enal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agu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y’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layers’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udents’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feree’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otbal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cc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oalie’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ju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houldn’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udent’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e’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layer’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asn’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ponents’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ustn’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fessio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uld’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mate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ttend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quads’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1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723920" y="1447920"/>
            <a:ext cx="4038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hib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ffici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6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st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7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CA" sz="2400" spc="-1" strike="noStrike">
                <a:solidFill>
                  <a:srgbClr val="ffffff"/>
                </a:solidFill>
                <a:latin typeface="Arial"/>
                <a:ea typeface="Arial"/>
              </a:rPr>
              <a:t>diall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vers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9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muni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buClr>
                <a:srgbClr val="ffffff"/>
              </a:buClr>
              <a:buFont typeface="Arial"/>
              <a:buAutoNum type="arabicPlain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merc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buClr>
                <a:srgbClr val="ffffff"/>
              </a:buClr>
              <a:buFont typeface="Arial"/>
              <a:buAutoNum type="arabicPlain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nefic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tific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ci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390680"/>
          <a:ext cx="3809880" cy="4827600"/>
        </p:xfrm>
        <a:graphic>
          <a:graphicData uri="http://schemas.openxmlformats.org/drawingml/2006/table">
            <a:tbl>
              <a:tblPr/>
              <a:tblGrid>
                <a:gridCol w="907920"/>
                <a:gridCol w="2901960"/>
              </a:tblGrid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uldn'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leph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ee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u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a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t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wnershi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ffi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ven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at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16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038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efu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nt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autifu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cefu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oadca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iend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ve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vertise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rml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pel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ftn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0" y="11430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musem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uglines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endles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warenes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rgum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luckil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uzzines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olourfull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transmiss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ssignm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tionles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videotap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17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64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rang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iti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udy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ublish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pi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vid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i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tisfy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llustr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aract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040" indent="-4640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llustra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e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uckl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ni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r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ri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ri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alogu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hotocopi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yndic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rrifi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7440" indent="-3974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tisfi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18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dre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riend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ffic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eop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ictu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ci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hib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rgu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entur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oesn’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aract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orri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vertis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lphab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ig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llustra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ti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autifu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agu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feree’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Unit 19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isi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il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hut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lamm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ragg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ferr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it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idd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mer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nsi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ipp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gin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n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abb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ermit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rget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ega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aphrag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er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velop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llumina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pos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ho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le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lar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nect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ne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tre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pup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ul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c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v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e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o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3. strok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4. mig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5. wide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6. st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7. escap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8. priz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9. </a:t>
            </a: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mig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. cyc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1. frag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2. </a:t>
            </a: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metamorpho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3. spec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4. pupa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t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etho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nadi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m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pir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sent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ufac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sgr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anqu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garl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llec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lici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n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c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yru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meric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nti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exic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comme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nt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finite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uarante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eppermi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i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ffi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urcha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un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isto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it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ultip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alu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red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erso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anda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i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chan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rrenc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al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in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posi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cim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im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net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pecul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azz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amo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ine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oll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lit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wfu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rth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ick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ryst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rigi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rilli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unn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ill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ol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meral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ou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lis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r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vinci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denti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c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rall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ctahedr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ag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rec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at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st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ut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ig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ampi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ott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nk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a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ustach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rink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gge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tain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ark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et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echniqu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mp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llu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ngth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ut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anqu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wfu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ustach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ufac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rigi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at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amo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isi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yrup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nsi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rink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rilli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gin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rget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lici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olla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ryst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alu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ffi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eget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ar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leas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sid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gnor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p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orthl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sh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eath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ash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sponsi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rv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fort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cto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cell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ealth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ossi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rge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leg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emor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nsi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uxuri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min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flamm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6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trag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nerv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terrif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pleas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crea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furi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humor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fail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pian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less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mysteri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signa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tor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dramat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seri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cul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domest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curi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piani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octa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acoust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ambiti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courage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leis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7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pa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si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te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arefoo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vant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and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rri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ttra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labo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ver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rtun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lic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spe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ffe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ess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ress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te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or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ccasi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ugg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form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ggress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rn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8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et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dust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bin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ffe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gredi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ocol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co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ne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lan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di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d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mi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stru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tribu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d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arv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ced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plan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fe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pet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nov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29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cientis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lt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va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plo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ro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en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men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ra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lli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fu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stro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arthquak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mis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rup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ragm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a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fes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spen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vi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u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gne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i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cca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inta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twe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propell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ree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pla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as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ce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sh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r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lea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fre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scur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3. displ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4. real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5. sleig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6. hur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7. weig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8. bu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9. eigh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. mainten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1. </a:t>
            </a: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terra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2. hovercraf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3. reason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4. </a:t>
            </a: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veloc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Unit 29 – Adventures With Word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rt 2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l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o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o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v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4724280" y="1676520"/>
            <a:ext cx="3962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c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v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v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3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et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spe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rri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ocol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cell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sid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rge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gredi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pa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ossi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ysteri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co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leas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si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stro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rea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errif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eget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ttra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3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bstitu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peri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chan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anspor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fe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vie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bmar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clai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natio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tr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btra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pens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p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ansf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rup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anspar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fer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eeseburg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ansfor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te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bstanda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ceptio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3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dishone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lo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soun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unexci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disappoi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unpopul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wei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travell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tau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disagre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list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unpa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scour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usici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heth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know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ho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oar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iol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rchestr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believ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fortunate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squalifi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sobedi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3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nt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fer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gr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fess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or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vie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appe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ntas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onder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glis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di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hy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wri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pa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os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den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hyth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fici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f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adju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ssion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3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unemploy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tenn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cal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neighbo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Fren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Newfoundl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ser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knoc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ze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nine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gar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Tuesd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ri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dmont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ne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sgracefu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happin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depend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rederict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eti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natu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cre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uvi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urna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3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rup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uesd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st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ei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hy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sappoi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l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os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noc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unexci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musici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who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wor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nine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independ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tau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wheth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po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neighbo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lie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a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eav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lo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ie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ow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coa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r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loa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ce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lie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ow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sl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ho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r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e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right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ti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soapsto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sculp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orrow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lightfu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rief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coax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it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ol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d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rto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nuis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hoo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oo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ve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uic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oo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chu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yp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consum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git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clu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re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lu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ne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udi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portun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newslet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pursu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spu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ofrea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6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cep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ne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ce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al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leig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uis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ur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re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ect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ce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1. belie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2.fright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3.on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4.who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5.bom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6.escap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7.weig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8.bu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9. thre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. chu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7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orb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part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parkl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arg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plo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rmu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i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ard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a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ort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oursel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gno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ansfor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bsor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rwa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war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ur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ete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rad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astronom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mournfu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constell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r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8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ert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ir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rg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na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ur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r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ea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ecess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ser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rrig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le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pe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ertain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tter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rpri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lurr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wir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urd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a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catter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urrow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rviv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ctur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quir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9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noy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rown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i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o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wer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mploy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vo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werfu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is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oub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ffer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ck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ang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u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rou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or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joy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oint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und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co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yal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oycot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cow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8</cp:lastModifiedBy>
  <dcterms:modified xsi:type="dcterms:W3CDTF">2011-09-08T13:09:20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